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D5A-F2D7-4F89-B818-CCBB11DF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186-6577-4A83-B001-E9F15649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6D8-9320-475F-98CF-048FB4BA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20C-84CC-484A-AB76-6EEB6646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AC61-D30C-494D-BB2E-1CA0496B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B388-1371-4558-B751-042022AB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08BD-1403-45DE-9F99-8D7E7C6B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F24B-DF40-4AE2-BB77-1E96035F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24A6-1B82-4396-B5CE-A30F9728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FA24-579A-4BB3-BE68-62991501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F1EA-F894-42C5-8C84-2A84FB43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D25-F3AC-412F-A2D3-8D77B7EA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900B-1DF7-4388-B9B9-77EF9623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65EF-E0CB-4BA0-A744-1627E1D6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FC12-D705-4BF7-A1E4-42A12F85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B831-9012-4647-8D69-84C4FA4F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F566-4F7C-447E-B570-E860DEBA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70D-807D-48FF-8E2A-94C285C4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1AB-DD75-4CF4-B5AC-CCE9F9B3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21A-3A36-48C2-9265-81149B23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9BD-72BA-4E82-8CDB-004EE65F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E8D-B2CE-4EDF-85D1-08F5110F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B85-4DF4-4A83-A4E4-46E949AE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C98-DF92-4510-95DA-3F0DEAD8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564C-4229-466F-9E24-AF02DE2365A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57BD-2BFB-45FE-A9D2-93A0E09F453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 rot="20701800">
            <a:off x="550800" y="580680"/>
            <a:ext cx="5738760" cy="26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ffe103"/>
                    </a:gs>
                    <a:gs pos="100000">
                      <a:srgbClr val="e20c5e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oclate Chip Cookies</a:t>
            </a:r>
            <a:endParaRPr b="0" lang="en-US" sz="1800" spc="1" strike="noStrike">
              <a:ln w="255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ffe103"/>
                  </a:gs>
                  <a:gs pos="100000">
                    <a:srgbClr val="e20c5e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572000"/>
            <a:ext cx="25909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Kayla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onday, September 27, 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mputer #9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43000" y="5029200"/>
            <a:ext cx="419112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usic: Free Play Music 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Hip-Hop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10/4/2010,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2666880" y="2921040"/>
            <a:ext cx="20574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ventor : Ruth Wakefiel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uth Wakefield was the woman responsible for coming up with the concoction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uth  graduated from the  Framingham State Normal Arts school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fter graduated  she work as a dietitian and a food lecturer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n 1930 Ruth and her husband Kenneth purchased a Cape Cod toll house located near Boston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Her house  had originally been built in 1709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re, passenger paid tolls, changed horse ate home made cooked meals  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uth sold her house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verter :Chocolate Chip Cook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are the only  chocolate chip  cookies you will eat . She made them with semi-sweet bar that had been given to her by Andrew Nestl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he thought that the bites would melt in the into the cookies dough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he brought them to her friends and family they were good said her sist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he was happy because her friends said they were goo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he was glad that  her friends were happy and her family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Wakefield"/>
          <p:cNvPicPr/>
          <p:nvPr/>
        </p:nvPicPr>
        <p:blipFill>
          <a:blip r:embed="rId1"/>
          <a:stretch/>
        </p:blipFill>
        <p:spPr>
          <a:xfrm rot="19637400">
            <a:off x="2666880" y="457200"/>
            <a:ext cx="3048120" cy="31240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Wakefield"/>
          <p:cNvPicPr/>
          <p:nvPr/>
        </p:nvPicPr>
        <p:blipFill>
          <a:blip r:embed="rId2"/>
          <a:srcRect l="26026" t="0" r="0" b="0"/>
          <a:stretch/>
        </p:blipFill>
        <p:spPr>
          <a:xfrm>
            <a:off x="4343400" y="4495680"/>
            <a:ext cx="4114800" cy="18288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152280" y="4248000"/>
            <a:ext cx="3657600" cy="2610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304920" y="2590920"/>
            <a:ext cx="2590560" cy="1141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5"/>
          <a:stretch/>
        </p:blipFill>
        <p:spPr>
          <a:xfrm rot="19837200">
            <a:off x="0" y="0"/>
            <a:ext cx="3429000" cy="1096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 rot="19776600">
            <a:off x="5486400" y="2971440"/>
            <a:ext cx="1905120" cy="14018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7620120" y="2514600"/>
            <a:ext cx="1307880" cy="1521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8"/>
          <a:stretch/>
        </p:blipFill>
        <p:spPr>
          <a:xfrm>
            <a:off x="3124080" y="4038480"/>
            <a:ext cx="158292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08Z</dcterms:created>
  <dc:creator>install</dc:creator>
  <dc:description/>
  <dc:language>en-US</dc:language>
  <cp:lastModifiedBy>install</cp:lastModifiedBy>
  <dcterms:modified xsi:type="dcterms:W3CDTF">2010-10-13T17:51:30Z</dcterms:modified>
  <cp:revision>11</cp:revision>
  <dc:subject/>
  <dc:title>Slide 1</dc:title>
</cp:coreProperties>
</file>